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CBD-3401-45AB-A7BE-E0A23D1EA2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5BF-A027-48DA-BE8C-5AE873B03E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881-892A-4526-9FED-DDAA267B29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014-33E2-4B55-97F6-130A2DBD53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4151-A986-4A11-8A5B-3024D64D84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0ECC-5CB6-4722-8558-7FA1EBFAFA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7A7-4EDC-4D41-B93E-1EEEA072BC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363-9AB0-4D87-9288-CE0A4315B6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EACA-A23A-4217-8657-D0ECA6F7C2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76FC-111A-4BBB-A140-E902937C4E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6E0-B226-4BB8-B197-58E94407F9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0D18-DD4B-4E69-BA06-97C46F60AE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16E7-8220-4C39-95AF-D8669F1620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3194-435D-4BC3-8760-034D830F73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DEF-B18F-453E-B02E-8A08BB3656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178A-89B0-4349-B479-056FC272A4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91E-A936-4CD2-A2FA-B4396FB56E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19AC-CDE8-4488-9771-32D093FA79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33AC-6416-4322-B7CD-7478511AC5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7355-0385-4A7B-932E-5B7ECD9CC6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788-8A9E-4F6D-88BB-5DCAB9D674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1046-AF38-4737-B568-2DE1CCB27F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5BD-83B5-4273-8394-A76550307D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561B-5E0D-4984-8549-261A086FC0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8250-020C-447D-ADEA-626B509D74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C632-6FD8-477B-9758-00B8E14A15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1D11-6EDD-4650-9348-A457D51F38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0D8-DED4-4B81-88E5-AB6202B37C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230C-1B49-47FE-8245-7E5FD65F8D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291-3274-4A43-B553-0CF51DD953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B675-6DA1-436F-8364-FC3B0A7FE1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7241-11A5-4EE1-822E-7C45FC761F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F153-33FD-4D20-90C0-A4DADFD9F7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78F6-2FA2-40EA-B687-B83FEFAC85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5927-58E3-4FF4-B58A-5FD8BD456D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1090-D137-4046-8042-47FA470FBC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0E4-E40E-4FAB-A7F6-FDF2911D83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AC7-4612-4A46-9188-99BD5529D0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53C-A4BC-4198-8678-E3B1DE0D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451-C224-493F-AD12-FC8050F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65C-8782-43E1-800D-C6E108D3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CBE-D451-4BF5-9C9D-29F3F404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D1DC-35FA-409C-9405-3F0B0DF3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DB96-E23A-4DA3-AEAF-E3175A9D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B8D7-2AD5-4DF1-9EB5-0C7490BB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08D5-FA2E-41B3-A0A4-2FA8CDF2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FF21-2C09-4503-994D-5E7B3D53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5F42-35C6-4F0D-B391-E6D91DEC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DAAF-9D77-4548-A8C9-7A430C0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E01-AAFB-4DC3-9AED-03DACB56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9CBD-BEB4-403C-9A86-96BAF5C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DF47-3C61-4778-A459-82CA255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AFB2-C391-408F-925B-05534F5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CB73-6538-4441-8353-1D11C148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FC32-BD2F-4441-9197-6CD617EF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835AB-2F1D-4F03-BA6C-2D6BF0BD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16601-0B03-4B03-854A-1A220AF8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3684E-29A8-44D1-B106-CCD69FF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CDC32-B40D-4680-8918-17C68F23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4C908-7E0C-4A2D-80EA-740DE1C5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D79-51D0-4811-9F0D-D698C4A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C995D-D99E-4839-9982-705E23D9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37B85-AE4F-413C-99BD-AD49CF1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E656E-B836-412B-90C9-594190F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60374-492F-4EF9-93E4-0DE39E4B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843F0-472A-41B3-AA44-77DCA3BB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3A262-B12E-45B7-A6E5-E0763638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FF375-273D-429B-A7E2-875ADFDA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9A675-AF69-421D-8F7D-D3B5C62C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17F8-ED17-46E2-B56F-73920C8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0093-FE85-4CC1-89B2-16692602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9F6-6FDD-49E1-978C-A2C65449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82B2-46DA-4D70-981E-4C7E573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7091-85DB-47EF-90BE-485B41AA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9E3C-00CA-4F0B-9CBB-4E84137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FC2F-088B-42DC-8A69-031AE409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14A1-7BC6-4406-B253-F2E6E978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EEDF-FC2F-4179-BDFF-76C2C8F1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E0D85-AC0E-4BC2-A9C4-A2E1A6A0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E2A11-280C-4F01-9C3F-014D4EEF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9ED2-3A3B-4FAB-9E42-9D48D672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67C-CC08-41BC-A0A0-9381F283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3E6-1B4F-41E6-B69E-3E93DFEC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6D4-2028-4426-AD73-1AAEFA3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AF2-9FF3-437E-808F-B6F1221B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B9C-D3C9-43C2-996D-6C1C51E6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4850-479B-498A-AE0D-EB4ECF1A56A1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AD65-990D-4C78-8842-D1FF40B291CA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AD7D-FD9C-4E5B-A7CF-0932D30F9046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7211-C7D4-4014-8004-13028C182156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en.wikipedia.org/wiki/Image:PoleMountTransformer02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시스템과 표준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7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, 6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40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의 정의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구성요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네트워크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호연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의 구성요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인공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변압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송전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계량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인공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회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의 조직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법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자원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람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엔지니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리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정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노동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왜 시스템으로 분석하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 구성요소는 시스템의 목표를 위해 존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성요소의 변화는 시스템의 목표에 비추어 이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과 주변환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과 주변환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변환경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 관리자 통제 밖의 요인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과 환경의 경계는 유동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과 통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은 불확실성보다 통제 선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성장하는 시스템은 주변환경을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 내부로 포섭하여 통제 시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시스템의 진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진화의 패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혁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이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성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고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멘텀의 획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키워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단계마다 핵심 인물 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발명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업가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관리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업가 </a:t>
            </a:r>
            <a:r>
              <a:rPr b="0" lang="ko-KR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재정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업가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단계마다 풀어야할 핵심적 문제 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술적 문제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조직적 문제 </a:t>
            </a:r>
            <a:r>
              <a:rPr b="0" lang="ko-KR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재정적 문제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발명과 개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종류의 인공물의 창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주회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은 모두 인간의 발명품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수적 발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격적 발명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품이 현실에서 살아남을 수 있도록 많은 기술적 문제들을 해결해가는 과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명품에 물리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치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특성 부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발 단계의 문제는 발명에 의해 형성될 시스템의 목표와 시스템의 구성요소들 사이의 체계적 관계에 크게 의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업가의 중요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혁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혁신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발된 기술을 바탕으로 생산과 판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서비스가 이루어지는 실제 사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시스템의 형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 통제권의 확대 및 주변환경의 축소 시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련회사들의 소유 및 통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료와 상품을 담당하는 조직까지 흡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핵심 인물의 변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명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가의 중요성 하락하고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리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가의 중요성 점점 커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시스템의 주된 역돌출부의 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스템 구축가로서의 에디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뿐만 아니라 전기조명 시스템을 통째로 개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Early Edison Lamp"/>
          <p:cNvPicPr/>
          <p:nvPr/>
        </p:nvPicPr>
        <p:blipFill>
          <a:blip r:embed="rId1"/>
          <a:stretch/>
        </p:blipFill>
        <p:spPr>
          <a:xfrm>
            <a:off x="900000" y="2276640"/>
            <a:ext cx="647640" cy="1358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System diagram Generators in series, lamps in parallel, and three-wire distribution (Patent no 274290, 20 March 1882)"/>
          <p:cNvPicPr/>
          <p:nvPr/>
        </p:nvPicPr>
        <p:blipFill>
          <a:blip r:embed="rId2"/>
          <a:stretch/>
        </p:blipFill>
        <p:spPr>
          <a:xfrm>
            <a:off x="5651640" y="2997360"/>
            <a:ext cx="1990440" cy="3168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Jumbo Generator"/>
          <p:cNvPicPr/>
          <p:nvPr/>
        </p:nvPicPr>
        <p:blipFill>
          <a:blip r:embed="rId3"/>
          <a:stretch/>
        </p:blipFill>
        <p:spPr>
          <a:xfrm>
            <a:off x="1692360" y="2924280"/>
            <a:ext cx="3557520" cy="3241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1999080" y="62373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백열등 수천 개를 켤 수 있는 점보 발전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6050880" y="6237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병렬 배선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스템적 사고의 필요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백열등은 혼자서 빛을 내지 못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백열등 조명을 위한 최적화된 시스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요소가 변경되면 다른 요소도 변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 조명에 알맞은 특별한 구성요소가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뒤쳐진 구성요소에 개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혁신 역량 집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존 조명시스템과의 경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성 및 성능 비교는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크등 또는 가스등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이 아니라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크등 시스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스등 시스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 시스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274680" y="1413000"/>
            <a:ext cx="8901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195640" y="750960"/>
            <a:ext cx="41767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81914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어떤 특징을 포착한 개념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사회의 어떤 특징을 포착한 개념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은 현대의 기술에만 적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의 기술일수록 더욱 시스템화되었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Picture 2" descr="Pearl Street station around 1883"/>
          <p:cNvPicPr/>
          <p:nvPr/>
        </p:nvPicPr>
        <p:blipFill>
          <a:blip r:embed="rId1"/>
          <a:stretch/>
        </p:blipFill>
        <p:spPr>
          <a:xfrm>
            <a:off x="1258920" y="1197000"/>
            <a:ext cx="3935520" cy="26607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943560" y="6922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첫 번째 발전소인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arl Street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전소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뉴욕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88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69231"/>
          <p:cNvPicPr/>
          <p:nvPr/>
        </p:nvPicPr>
        <p:blipFill>
          <a:blip r:embed="rId2"/>
          <a:stretch/>
        </p:blipFill>
        <p:spPr>
          <a:xfrm>
            <a:off x="5435640" y="692280"/>
            <a:ext cx="3017880" cy="309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221351-1f1"/>
          <p:cNvPicPr/>
          <p:nvPr/>
        </p:nvPicPr>
        <p:blipFill>
          <a:blip r:embed="rId3"/>
          <a:stretch/>
        </p:blipFill>
        <p:spPr>
          <a:xfrm>
            <a:off x="468360" y="4076640"/>
            <a:ext cx="4701960" cy="2470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5580000" y="414972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디슨의 전기조명 시스템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시 변화가에 최적화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 &amp; 200V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직류 발전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많은 백열등 병렬연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 전기조명시스템의 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발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배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소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계량 등의 하위시스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대용량 직류 발전기들을 거느린 중앙발전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병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배전 시스템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백열등과 소켓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스위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계량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적 시스템을 관리할 조직적 시스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전등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재정 지원 및 발명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특허 관리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뉴욕 에디슨 전기 조명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중앙발전소 설비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기계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발전기 생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전기 튜브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송전 케이블 생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전구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백열등 생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의 시장 개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틈새시장에서 시작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나중엔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가스회사와 정면으로 맞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2" descr="Edison wiz 1879"/>
          <p:cNvPicPr/>
          <p:nvPr/>
        </p:nvPicPr>
        <p:blipFill>
          <a:blip r:embed="rId1"/>
          <a:stretch/>
        </p:blipFill>
        <p:spPr>
          <a:xfrm>
            <a:off x="5364000" y="1341360"/>
            <a:ext cx="2694240" cy="4292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5523840" y="58053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Edison as Wiza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이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 지역에서의 혁신 성공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른 지역으로 확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[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이전이 꼭 혁신 이후에 일어날 필요는 없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]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이전은 상이한 환경에 대한 적응 동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리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치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문화적 차이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상이한 기술 스타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때로는 우연적인 역사적 경험이 영향을 미치기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 시스템의 이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1920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4" descr="Electricity Supply in Great Cities"/>
          <p:cNvPicPr/>
          <p:nvPr/>
        </p:nvPicPr>
        <p:blipFill>
          <a:blip r:embed="rId1"/>
          <a:srcRect l="0" t="18649" r="0" b="8013"/>
          <a:stretch/>
        </p:blipFill>
        <p:spPr>
          <a:xfrm>
            <a:off x="468360" y="2205000"/>
            <a:ext cx="6323040" cy="42483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4"/>
          <p:cNvSpPr/>
          <p:nvPr/>
        </p:nvSpPr>
        <p:spPr>
          <a:xfrm>
            <a:off x="2700360" y="40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런던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파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베를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시카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7275960" y="2637000"/>
            <a:ext cx="16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왜 런던엔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50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개의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발전소가 있는 반면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베를린엔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개의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발전소만 있을까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4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성장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경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시스템 성장의 원인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규모의 경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효과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단점도 있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다양한 부하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높은 부하율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경제적 혼합의 추구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역돌출부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스템의 성장 과정에서 뒤쳐진 구성요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엔지니어들은 역돌출부가 나타난 장소에 집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엔지니어는 역돌출부를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그것을 풀면 역돌출부를 제거할 수 있는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 “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결정적 문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들의 집합으로 정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이에 대한 보수적 해결책은 기존 시스템 성장에 기여</a:t>
            </a:r>
            <a:br>
              <a:rPr sz="2400"/>
            </a:b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파격적 해결책은 새로운 시스템 형성 </a:t>
            </a:r>
            <a:r>
              <a:rPr b="0" lang="en-US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스템간 경쟁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류 전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직류시스템의 역돌출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송전 거리의 한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수적 해결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 배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충전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격적 해결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류 발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고압 송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새로운 교류 시스템의 출범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웨스팅하우스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직류 시스템 위협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디슨과의 신경전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8" name="Picture 8" descr="System diagram Generators in series, lamps in parallel, and three-wire distribution (Patent no 274290, 20 March 1882)"/>
          <p:cNvPicPr/>
          <p:nvPr/>
        </p:nvPicPr>
        <p:blipFill>
          <a:blip r:embed="rId1"/>
          <a:stretch/>
        </p:blipFill>
        <p:spPr>
          <a:xfrm>
            <a:off x="611280" y="836640"/>
            <a:ext cx="3454200" cy="5499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Three-phase pole-mounted step-down transformer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3860640"/>
            <a:ext cx="2381040" cy="2314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trasf_o_ganz"/>
          <p:cNvPicPr/>
          <p:nvPr/>
        </p:nvPicPr>
        <p:blipFill>
          <a:blip r:embed="rId4"/>
          <a:stretch/>
        </p:blipFill>
        <p:spPr>
          <a:xfrm>
            <a:off x="4427640" y="907920"/>
            <a:ext cx="2257200" cy="26942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6"/>
          <p:cNvSpPr/>
          <p:nvPr/>
        </p:nvSpPr>
        <p:spPr>
          <a:xfrm>
            <a:off x="1038960" y="6488280"/>
            <a:ext cx="31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에디슨의 다선 배선 시스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83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에 설치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6900480" y="2565360"/>
            <a:ext cx="12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Ganz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변압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7110360" y="4869000"/>
            <a:ext cx="9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배전용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강압 변압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의 교류 비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4" descr="AC v DC"/>
          <p:cNvPicPr/>
          <p:nvPr/>
        </p:nvPicPr>
        <p:blipFill>
          <a:blip r:embed="rId1"/>
          <a:stretch/>
        </p:blipFill>
        <p:spPr>
          <a:xfrm>
            <a:off x="468360" y="2349360"/>
            <a:ext cx="3878280" cy="302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kemchar"/>
          <p:cNvPicPr/>
          <p:nvPr/>
        </p:nvPicPr>
        <p:blipFill>
          <a:blip r:embed="rId2"/>
          <a:stretch/>
        </p:blipFill>
        <p:spPr>
          <a:xfrm>
            <a:off x="4500720" y="2421000"/>
            <a:ext cx="3925800" cy="26766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6"/>
          <p:cNvSpPr/>
          <p:nvPr/>
        </p:nvSpPr>
        <p:spPr>
          <a:xfrm>
            <a:off x="4346640" y="515772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Kemmler Westinghoused!” (1890. 8. 6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1009800" y="544500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에디슨 연구소의 실험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3423960" y="60930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교류전류는 살인 전류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류 시스템의 성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교류시스템의 초기역돌출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용적 모터의 부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결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상 교류 발전기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터 개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테슬라 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직류 시스템과의 경쟁에서 기술적 우위 획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3" name="Picture 4" descr="3-phase transmission system (Haselwander)"/>
          <p:cNvPicPr/>
          <p:nvPr/>
        </p:nvPicPr>
        <p:blipFill>
          <a:blip r:embed="rId1"/>
          <a:stretch/>
        </p:blipFill>
        <p:spPr>
          <a:xfrm>
            <a:off x="1116000" y="3573360"/>
            <a:ext cx="6808680" cy="25923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2071440" y="6093000"/>
            <a:ext cx="48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다상 교류 발전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고압송전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다상 교류 모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산업사회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산업사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사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공동체에서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확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사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배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확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운송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공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http://www.mbakery.co.kr/backup/200511/a5.jpg"/>
          <p:cNvPicPr/>
          <p:nvPr/>
        </p:nvPicPr>
        <p:blipFill>
          <a:blip r:embed="rId1"/>
          <a:stretch/>
        </p:blipFill>
        <p:spPr>
          <a:xfrm>
            <a:off x="5148360" y="2637000"/>
            <a:ext cx="325260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류 시스템의 승리와 갈등 해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존 직류 시스템의 모멘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본집약적 시스템의 성격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불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자들이 이미 구입한 직류 상품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어떻게 최대한 평화적으로 해결할 수 있을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커플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coupling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합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merging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교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직류간 컨버터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시스템간의 화해 호환 기술</a:t>
            </a:r>
            <a:br>
              <a:rPr sz="2400"/>
            </a:b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교류로 고압 송전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최종소비자는 직류로 전화해 사용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합병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디슨 회사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+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톰슨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휴스턴 회사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GE</a:t>
            </a:r>
            <a:br>
              <a:rPr sz="2400"/>
            </a:b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GE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와 웨스팅하우스 간의 특허교환 협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9" name="Picture 2" descr="Rotary converter DC end"/>
          <p:cNvPicPr/>
          <p:nvPr/>
        </p:nvPicPr>
        <p:blipFill>
          <a:blip r:embed="rId1"/>
          <a:stretch/>
        </p:blipFill>
        <p:spPr>
          <a:xfrm>
            <a:off x="1476360" y="1628640"/>
            <a:ext cx="5238720" cy="41436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2657520" y="5950080"/>
            <a:ext cx="31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화해의 기술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초기 로터리 컨버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류 시스템의 확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2" name="Picture 4" descr="naiagara power"/>
          <p:cNvPicPr/>
          <p:nvPr/>
        </p:nvPicPr>
        <p:blipFill>
          <a:blip r:embed="rId1"/>
          <a:stretch/>
        </p:blipFill>
        <p:spPr>
          <a:xfrm>
            <a:off x="539640" y="227664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s13"/>
          <p:cNvPicPr/>
          <p:nvPr/>
        </p:nvPicPr>
        <p:blipFill>
          <a:blip r:embed="rId2"/>
          <a:stretch/>
        </p:blipFill>
        <p:spPr>
          <a:xfrm>
            <a:off x="5651640" y="2276640"/>
            <a:ext cx="2754000" cy="36734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1698480" y="61657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나이아가라 수력발전소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93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518440" y="616572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나이아가라에서 뻗어나온 송전선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95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5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스템의 공고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재정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업가의 중요성 높아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불확실성 제거 위한 노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변 환경도 시스템의 일부로 포섭 시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수합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정 및 조직 관리 위한 지주회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연관 기술들을 둘러싼 각종 표준 정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의 유지를 둘러싼 이해관계 집단 함께 성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육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4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제 공과대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기공학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기공학학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산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전제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기설비 산업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변화에 저항하는 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멘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획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외관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자율적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보편 동력 공급 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0" name="Picture 7" descr="universal3"/>
          <p:cNvPicPr/>
          <p:nvPr/>
        </p:nvPicPr>
        <p:blipFill>
          <a:blip r:embed="rId1"/>
          <a:stretch/>
        </p:blipFill>
        <p:spPr>
          <a:xfrm>
            <a:off x="539640" y="1700280"/>
            <a:ext cx="7128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최적화된 시스템의 함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델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포드 공장의 실패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단일 모델 생산에 최적화된 시스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자의 취향 변화를 따라가기엔 너무 경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다 유연한 시스템을 갖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M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에 추격당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 독립적인 모듈에 대한 요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최적화 일정 부분 포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차의 종류에 상관없이 사용가능한 부품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운영체제에 상관없이 사용가능한 프로그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러 프로그램에 쓰일 수 있는 코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표준 전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준화를 둘러싼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통 공적이익에 도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러나 공적이익≠사적이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막대한 교체비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내가 아닌 남이 교체하길 원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Feedback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작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점 효과 꽤 중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준화의 사례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디슨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lo” 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벨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hoy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컴퓨터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Qwerty”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로게이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북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피트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8.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남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피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 접근의 장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성공 또는 실패 요인에 대한 재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가가 실제로 한 일에 대한 재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디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텐베르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포드는 시스템 구축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과 사회의 공진화 이해 가능케 해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각은 기술시스템의 구성요소로서 연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자율성을 가지는 것처럼 보이는 이유 해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네트워크의 확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http://engineeringsociety.files.wordpress.com/2009/11/railroad_spread.jpg"/>
          <p:cNvPicPr/>
          <p:nvPr/>
        </p:nvPicPr>
        <p:blipFill>
          <a:blip r:embed="rId1"/>
          <a:stretch/>
        </p:blipFill>
        <p:spPr>
          <a:xfrm>
            <a:off x="395280" y="2276640"/>
            <a:ext cx="3467160" cy="3952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://voteview.com/images/freight00.gif"/>
          <p:cNvPicPr/>
          <p:nvPr/>
        </p:nvPicPr>
        <p:blipFill>
          <a:blip r:embed="rId2"/>
          <a:stretch/>
        </p:blipFill>
        <p:spPr>
          <a:xfrm>
            <a:off x="3995640" y="2708280"/>
            <a:ext cx="4791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철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석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기 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통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운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동력원 네트워크 형성의 귀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람들 사이의 상호의존성 증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람들의 기술에 대한 의존성 증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시스템 간의 상호 의존성 증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존성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변화는 다른 것의 변화도 동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문제는 다른 것의 문제도 동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의 발전 양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물리적 시스템의 통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표준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조직적 통합 동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통합은 기술시스템으로 얻을 수 있는 이익 극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 간의 상호의존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http://thumb1.shutterstock.com.edgesuite.net/display_pic_with_logo/261859/261859,1234462091,1/stock-photo-telegraph-poles-and-railway-line-in-winter-24867061.jpg"/>
          <p:cNvPicPr/>
          <p:nvPr/>
        </p:nvPicPr>
        <p:blipFill>
          <a:blip r:embed="rId1"/>
          <a:stretch/>
        </p:blipFill>
        <p:spPr>
          <a:xfrm>
            <a:off x="611280" y="2397240"/>
            <a:ext cx="61214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현대사회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=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거대한 기술시스템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제조업의 산업화는 농업의 산업화 동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농업의 산업화는 제조업 산업화의 전제이자 귀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러한 결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적 사고에 기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산물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에 의한 변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주식 시장과 투자 은행은 철도의 산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의 통합과 표준화도 철도의 산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교류 모터가 생산되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체에서 증기기관을 모터로 대체하기 시작했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는 공장의 설계와 입지까지 변화시켰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의 필요와 인간의 합리적 선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토머스 휴즈의 기술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4" descr="Hughes"/>
          <p:cNvPicPr/>
          <p:nvPr/>
        </p:nvPicPr>
        <p:blipFill>
          <a:blip r:embed="rId1"/>
          <a:stretch/>
        </p:blipFill>
        <p:spPr>
          <a:xfrm>
            <a:off x="539640" y="2276640"/>
            <a:ext cx="2822760" cy="417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ThomasHughes%20p"/>
          <p:cNvPicPr/>
          <p:nvPr/>
        </p:nvPicPr>
        <p:blipFill>
          <a:blip r:embed="rId2"/>
          <a:stretch/>
        </p:blipFill>
        <p:spPr>
          <a:xfrm>
            <a:off x="3635280" y="2276640"/>
            <a:ext cx="338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3:53:25Z</dcterms:created>
  <dc:creator>zolaist</dc:creator>
  <dc:description/>
  <dc:language>en-US</dc:language>
  <cp:lastModifiedBy>zolaist</cp:lastModifiedBy>
  <dcterms:modified xsi:type="dcterms:W3CDTF">2010-09-30T06:00:57Z</dcterms:modified>
  <cp:revision>66</cp:revision>
  <dc:subject/>
  <dc:title>기술시스템과 표준</dc:title>
</cp:coreProperties>
</file>